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449-85A0-46A5-81A6-0F48475D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AF1-B9AE-48BD-B669-22588296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DD727-EC96-47DF-A6C6-198070BD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9E01E-4E6B-4BC9-9AC9-12D510D5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3C891-AD11-4422-A56C-A22580CF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80121-999B-4D7C-9B84-C6E8EE88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29F98-C7A0-41F3-A3D9-10B25C55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99571-630C-4E49-BDA3-343B1F1C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C5394-19B2-4740-816F-8F964FE8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02E81-3A9E-4EE8-A5F2-12C4B334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CCF16-2746-4A91-A040-BA9CF668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1CD04-8D12-4A64-BC61-C56D8FD6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1CF-13D9-4BB1-97C5-062466EB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DF547-EE51-4464-8876-14C4ECB3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A5EB2-7397-4E5E-ACFF-29273F50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2BAFC-D7DC-4EFF-A9CC-AF103959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45F4B-2A0E-4845-A52C-A436184D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963EB-B759-4787-BA48-F8173FE8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6BEB5-4A47-4F5E-AA76-EC72C041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BC470-B8C1-48B9-BCC1-C71DBD58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FC3CB-5C13-4358-8FC7-678B0E39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EB48E-1659-43DE-9276-88ECDBAF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DCEC7-6A26-4357-B710-8F32E1C1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CFD3-1A00-40EC-98F0-4883D693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9A5ED-AC35-4E11-8CAA-EE4B8877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6C275-9EC3-44E2-9706-ED80AF26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27C7E-E4D6-4A7A-84BF-1835A7D0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66652-948E-40CB-A230-A24B7575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59D71-A478-4150-8977-3A9BF01F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DC70D-2B9F-44A8-ACD1-F43BD29E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385C3-CC7F-434F-8FD2-CB6F3DE2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8432B-BFAB-4254-BC76-659F0CE5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6DFA3-0677-495C-80DC-D7E9AC1F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3A9D7-2908-424D-950C-E79AECCB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D705-6937-4CB1-80F3-CC333603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0C2A0-A077-4C40-BA40-69B677F1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53884-1C92-4315-915F-5F9A9D82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EE608-4CCF-4D2B-9E86-CD546C0F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E6C68-94EA-4DA6-9C70-C5AD7844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65731-3A8B-4C93-AE56-C0F57168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C3C5C-D334-4D10-8A88-32A1BEFE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53BA9-01DF-488F-AB7A-7BCA8317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65B1A-F270-4B51-862B-0948FDB6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E6802-AF18-4B23-A2E9-7232EC7B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D8601-90E8-46EE-A0A6-14441C50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B7C3-870D-4C02-B451-F9EA0A25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A7B63-C7BE-4F26-AC8E-1BC6E354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09180-208D-494F-B3A9-281451E8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B5588-5167-47D5-8326-96C562CB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B852F8-F615-4C9A-9D54-F41522AD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560B8-BD9B-4A2B-9AE0-BF9DE9A9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CBD5A1-30D6-48D6-AF00-6B99FB4E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13ED46-79C1-4044-83E6-EFC233D0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55E634-A540-4908-B922-BE5B8E6A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8C43D-27AC-4B43-BBA9-B078D698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C32AC4-187F-41B6-96E3-318A08AC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7131-F2C9-4283-9BE5-22D77B41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BCF692-0DA7-42B6-9E3F-FACAFFED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7C1CE-80CB-45BD-AE28-812186EE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CA39A-86F2-4C29-9D30-BDF1878D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27CFB-524C-4F06-8F3D-1CD38322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7E33CC-6EA2-493D-BD9D-2EC8CE98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00460-18C8-4D5F-A176-CB8D88E1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F2B681-748A-4188-A848-269E546D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8D8524-A5E3-42A8-B1F1-10401AD4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88CF0-48A1-47EE-98BE-7ECE28BA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DC65CE-CD4E-46B9-8579-4D07CB17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3534-4568-452A-84C7-2328A9EF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2031F1-2923-4EA8-9FA1-7FE1AF41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460F78-F632-494F-9DF3-9DB59D9B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E63E59-F158-474A-B8B2-59B37F56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567777-4C73-4D25-A432-B82B5005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C239B5-F006-4190-AA6B-3812FB36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FFBE8A-1089-4BE2-8A58-0BE5B938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1F310B-F8DB-46CA-8307-844DF59C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2ED018-9B38-4357-8163-DF682A28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94D85A-AC46-4EF6-A8BF-8D84FEE1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5ABF25-920A-4991-9511-91C0A233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955F-1D72-4F77-8BFC-49BF2AEE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BC76DB-C7A8-4BC4-8CDD-4E7C668C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AF552D-81E9-48A0-9373-606F9FF0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D949B8-88EE-47C3-A523-011A5B83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026919-2992-46B9-81FB-432586B9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2A9530-15FF-4F96-A95F-688A2C8A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9BF913-98C1-4843-B527-4D6860C6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388B52-F2A2-4B6A-B4B9-C59D374C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EC2B83-4862-45E5-BF90-E6134F18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B1103E-91A9-4938-B187-ED5F09F8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B0343A-C135-49B0-8EE9-18F3EE8A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95CC-59C0-4018-A8A4-D1A0513C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3F1B95-38A5-4138-AA99-03478CA6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51B289-312C-4C1C-90E8-422694D1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ED5188-8FA0-41C6-B4C6-EDC2FEB6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EF3D79-68B3-4954-848F-342FD4A5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627DFA-5E82-4161-AE1A-58AC643D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A13A94-E9B6-4EB9-96BF-8092E3DA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23B67D-4223-4AEC-BDC8-94112B9C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34AAB0-E2B7-434F-9D56-8EBC6E40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8F6B62-E49B-4104-9D7A-ED761EA3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E5E591-106F-4C07-9A5D-E8CF4679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EC21-4C4E-4047-BB4C-501FA784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C8835C-E6F2-487F-B596-4BC324E7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E4DAB8-0C93-4A87-8D24-0E7EA8E1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8DE5E3-D43E-45B1-9A9F-FC58EC7F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8A0059-FE72-4A97-9856-26DF544A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363553-8261-4B62-A86E-0F31677C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DC3395-EF89-41AC-B929-10E87A06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3714E2-FA63-4639-9BEE-5D8C6240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C2D1EA-0A66-4300-A2C6-C2A5383A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384AC6-C750-421A-9B74-CFC50075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3A4578-7265-49A1-BDC9-8E6E43F6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EB3E-1E0F-4E8F-ACDD-A3A4388F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FD15-1363-497A-881A-5D546044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6DBF69-B587-4F61-8DAF-1AFCA638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6A8CA6-0A98-4ED8-9236-9638B026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89E6D6-0FE2-4595-AAF3-2DB8AF29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EE4E11-0764-4087-844E-C7A31051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B3A858-233B-424A-B1AC-8430856D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50CF62-D269-469B-9687-2ECC0348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4A7ED5-F947-407F-BDD6-87EC3215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0819CB-5279-47DC-A09E-568A33A0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3C187F-1BED-4423-B070-ED0130E8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E6202D-DFE1-49E3-A4C2-EFB50057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CA61-134B-4483-BC50-09D892AD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D4E2A5-C8FA-4CB7-90A5-0F9EC7BF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64DBAA-4688-44D0-9287-3E0362A6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F436B5-2AB0-4411-B22E-2CF2887B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F02D16-794E-4663-9D48-39CC844C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674EDA-83F3-4AA8-8C25-08618BFF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3EACC1-D349-4D53-A45B-21D2351B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332E2C-4297-4C12-9125-FF4BFA48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511D63-3C8C-4321-8BDF-B5958ECD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23B06B-2CCE-48A3-A0EC-479A88E9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DFFEE9-522C-443A-904C-531D7CD5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9360-0329-4F11-8375-4D57D976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219987-1019-47F0-B0E3-87ED497B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260605-9B8D-426F-8B8F-83BE8DD6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A93563-8B57-494C-A28F-CE5F3E37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FE7599-E7EA-4C50-85AE-879F45AE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F3F779-B033-440F-AD42-9AFDACC5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83C109-00E8-45C8-BA92-6C86E184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6A16FF-280F-46DE-A14C-90E5F91E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C313B0-00E9-42E5-86CE-EA3372A5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DB2371-3D07-4229-B8B1-D3ED1F6D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C5C819-B43A-4C12-903B-A07AE7CA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D7BE-66CA-4975-8C99-B6CA59E2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66884C-952B-461E-8165-27DA600D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1156BA-1E2B-48BC-A2B4-9FA54556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0D5E57-C7F7-4633-AC8D-DFE6DAFD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B5F973-5691-40DB-A2B9-2ED761AB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CA0B01-3B66-4BB9-BA6A-D2571855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4F8B1D-7D62-4484-ABB3-31B3A245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C9F5C1-ACBA-4149-9263-026A0CD6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DAED14-0A0C-43AE-8C68-E04EC900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8DDCC8-D018-408C-B6C0-7AB51BDF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CD657A-2E16-49C1-A52D-FFBAE914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FACD-9A9C-4E60-85A1-F2EECF48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77883C-93FA-4E60-A353-F5AF63B7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5BDBCD-6F46-45AF-99FB-3D4C6B94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97FE8A-F49C-41BB-B961-CA078362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F30CDC-C412-450F-B904-7DE4976D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816ABC-D083-4684-96A5-26352298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38A211-69A6-4817-9969-9E2C83B9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69D5E4-2533-429D-B106-E5CBE332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F3BE99-CBCB-4612-AF24-5FD6EFC8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2429A3-2E01-4A76-87EB-6695B609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1FC74F-EED1-42A3-8411-254771AE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77845-7FD7-4A83-9E32-F139CB2E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32FF9B-A93F-4C2C-9820-9F8A2090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AE1517-E212-4AD7-B98E-CA056363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87D803-2498-49CD-B920-B1873356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789AA-0633-4727-9654-8FECF199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6DFAD-3A50-4FB8-94E3-60FEB689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240E0-7A69-4058-9208-07D7036D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4D42C-503F-46EB-8C30-55395667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61D-5200-4746-B6D4-7BD98658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7DF20-2CF3-4BD6-8DAF-25C19953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FCFE9-2EC7-43E5-ACD4-F0A8F244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32BC4-4404-4D67-94E8-1E3A94F7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B4E26-7046-45EC-9D44-85BC0829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D1910-5357-49BE-8A32-6CE2ED51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9FF02-33F4-4FE7-AD8D-57CF9EA2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9A380-A04D-4711-871B-D14DFE81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4E67D-A768-4ADF-87BF-BD8EC3C0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76EE7-FDAD-40FF-A835-69F4459D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75F95-3A67-42DA-B910-91D5BC0D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C743-BF59-4512-ADAC-593D7877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F7AC1-E8AC-415A-A82A-6C6369BB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A7A31-7251-4470-95BA-9B1AF4A2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0DF9F-9409-495E-88D2-928E939E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E7C27-F882-4DE9-8D8E-B1A501CC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25706-EA96-479A-89DB-2EB6EEB3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C5F03-6F8D-47AD-83E4-A45F691F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7C6BA-8CF6-4C70-9A18-BB382F75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9658B-ADE5-41F4-A0A6-5C729915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C00C6-AE50-4044-92CC-87FB56AE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54BFE-742E-44AA-8D98-44BA473C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8D5-C3FF-4FF5-A74D-3EBA7830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A1279-241B-48E4-BEFE-9CEE5703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1BEA0-FDE3-44B2-B3C5-624C753F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4D0EF-979A-4299-8009-388FA531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5C2EE-414F-4727-A4ED-4180EC46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51886-AAB3-4EE2-9727-21120C1E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1D10B-5D34-41BD-B92B-5C6A8D1A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97F26-02CE-4781-8C67-C0ACB52A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E2C84-0AD0-4341-BFFE-01E4433A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33496-DE7C-4B01-B631-CB71D0A6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FECA2-B1C5-4A09-A635-E7DB7A38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F1E-5FE5-48BE-9972-C86C2EDE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57D10-4BD1-40A8-8ED9-036C3D6A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D602B-DF2A-402B-B68E-B69ED74F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243FE-BBA4-4453-9807-BF4C2049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AC20B-4048-4B12-A4B8-FBC7AA1A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D68CD-92F6-4B86-BEF0-E1CC06CE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1C239-30E0-4BA1-9108-0CB5DA4E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CDB29-E1D7-4745-93D8-3973C502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F5EF2-4AE5-420A-89D3-932CD4F8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3D2C4-E79D-4E07-A61C-9D78BE22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CA351-29B3-4C02-8073-A423183F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E2D-3C88-4224-932E-2621E41E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21FB9-A6D4-49C1-9042-06F3FDB3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24A29-69CB-476B-AE18-9EFA3961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F1E2E-FCBF-492D-9FBB-F8DC2930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80831-516F-40E9-B93A-EBCF3B33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3B711-F69B-4E76-B67E-E107B69E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87FF8-D484-4636-B42D-2E55A92C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6F0A5-275F-4731-953E-CFC11753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1B81B-8CAF-4501-AC23-6130E3B1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F89EA-692B-46A1-AB63-656C4FC2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ACCDF-D99E-40C8-AFCE-3651C3CE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537E-1B05-4280-B095-9BF1D9C4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F6A5E-7912-4CFF-BA20-F496A612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373C6-0348-414E-9658-B2235FF6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63CAE-C200-48B6-999C-EB54AABC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AA549-935A-4F71-BC12-48639C4C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DF416-4182-4E3A-A616-1F6842A6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FC85A-F5E4-4C41-A991-CF34D1AE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31C78-DED8-405C-853B-EB5B9799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5E02F-FBA3-4770-9535-C19E0D02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82129-CDAF-452D-BB17-FB5022CB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304B0-47A3-469B-AB85-E7ABA212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E73-ACEA-42D5-BB38-B9BAD4C5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27443-0695-4759-A1D5-8FCADAF7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9F664-8AF8-4FE9-932F-40590459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EDD22-8EF3-4AE2-805F-DD334718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4E85B-6E6D-46F6-8390-FEF5D8BA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45729-7E47-41D6-ADCD-08F376F8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3C1FB-91DC-48D3-A64B-F4756B88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7F47D-BCE4-448C-8B0C-C73A915F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A0B39-276E-469C-9A97-82B3228B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5A5B9-4AF0-471A-9A12-4AD0D0AD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AB9E9-FB5C-4BFC-A3D0-4F28390C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7C07-DB07-4B39-9719-9B8B3460D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986A-43C7-48D3-B994-9C298A0C0C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FFA6-1602-4DD8-A50D-34EF84DF13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488D-C636-4089-9B59-34128845C7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91B0-D381-4686-81CD-39CB9DF105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F184-8171-4B49-B111-14CFB810BA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079B-5898-4F0F-9174-184BCBE938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0B91-7330-4898-A405-047BC84E57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FF4D-AC39-43B3-BBEF-F3FA6D6F5D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DB40-B3CF-46F2-BA87-089E8926EB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7E5B-DB94-48F1-BB7E-9DC89C09B5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7C91-D075-4EF6-A234-681DCFC7F6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9EE0-5DDC-41CB-BF5F-129607685F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7346-4F42-40E1-8076-C4441A9C49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363B-A5F7-4871-A804-D75CEE6037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C1F2-52D6-4108-8ADC-D26B4BD093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A62B-634C-43C8-891C-8252DFE8C4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0726-2534-443B-82E4-DF0FD21CFA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F041-3495-48C7-AD18-2B7AA45AE6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36BB-51E3-4B7C-A7EA-DDED3C645A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5B54-5214-4DC7-B445-138B204CA1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1E82-FA82-4882-A2BA-E7A7C86339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4FA8-EF2B-4729-ADB7-4931A28D1F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BC9D-97C8-48CB-A2A3-50FA7A50E9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EF8A-4345-4F47-9DD3-4E8271F335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37A9-C5C1-49D2-9303-6D6834529F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FC08-A104-4103-9C72-89A5244F54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A8FC-26D5-4E8D-BEEA-EAB4CC85B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096F-64A5-481E-BD70-FF2B30A355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348C-004B-43E2-AD88-91BB8FCE05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490D-4BFE-4917-9FCB-1B16B999F1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4B7C-0776-4F18-9D00-E883DBA092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5E58-756C-4FB3-89C2-BBFB449B0F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BF92-73E7-482E-89B5-8051C4F0D8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B866-6100-4DCB-BDAD-48D93E1250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A68D-1F61-428E-AC2E-161597ACC7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BD87-EF41-4B95-A55D-52CDCDCFD0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759B-54A0-46B8-B4C8-E4DE6BB19E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0072-EEE8-4A43-BEF0-BC87DC11A6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FF62-2216-49F9-A4D2-5A9E37DBA1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3078" descr=""/>
          <p:cNvPicPr/>
          <p:nvPr/>
        </p:nvPicPr>
        <p:blipFill>
          <a:blip r:embed="rId1"/>
          <a:stretch/>
        </p:blipFill>
        <p:spPr>
          <a:xfrm>
            <a:off x="905040" y="2057400"/>
            <a:ext cx="7333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图片 56321" descr=""/>
          <p:cNvPicPr/>
          <p:nvPr/>
        </p:nvPicPr>
        <p:blipFill>
          <a:blip r:embed="rId1"/>
          <a:stretch/>
        </p:blipFill>
        <p:spPr>
          <a:xfrm>
            <a:off x="293760" y="1069920"/>
            <a:ext cx="8076960" cy="2752920"/>
          </a:xfrm>
          <a:prstGeom prst="rect">
            <a:avLst/>
          </a:prstGeom>
          <a:ln w="0">
            <a:noFill/>
          </a:ln>
        </p:spPr>
      </p:pic>
      <p:sp>
        <p:nvSpPr>
          <p:cNvPr id="1076" name="矩形 56322"/>
          <p:cNvSpPr/>
          <p:nvPr/>
        </p:nvSpPr>
        <p:spPr>
          <a:xfrm>
            <a:off x="1165320" y="1836720"/>
            <a:ext cx="72230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56323"/>
          <p:cNvSpPr/>
          <p:nvPr/>
        </p:nvSpPr>
        <p:spPr>
          <a:xfrm>
            <a:off x="1096920" y="3019320"/>
            <a:ext cx="72230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56324"/>
          <p:cNvSpPr/>
          <p:nvPr/>
        </p:nvSpPr>
        <p:spPr>
          <a:xfrm>
            <a:off x="1114560" y="3448080"/>
            <a:ext cx="722304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图片 55297" descr=""/>
          <p:cNvPicPr/>
          <p:nvPr/>
        </p:nvPicPr>
        <p:blipFill>
          <a:blip r:embed="rId1"/>
          <a:stretch/>
        </p:blipFill>
        <p:spPr>
          <a:xfrm>
            <a:off x="387360" y="922320"/>
            <a:ext cx="8029440" cy="4772160"/>
          </a:xfrm>
          <a:prstGeom prst="rect">
            <a:avLst/>
          </a:prstGeom>
          <a:ln w="0">
            <a:noFill/>
          </a:ln>
        </p:spPr>
      </p:pic>
      <p:sp>
        <p:nvSpPr>
          <p:cNvPr id="1080" name="矩形 55298"/>
          <p:cNvSpPr/>
          <p:nvPr/>
        </p:nvSpPr>
        <p:spPr>
          <a:xfrm>
            <a:off x="930240" y="1692360"/>
            <a:ext cx="753444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矩形 55299"/>
          <p:cNvSpPr/>
          <p:nvPr/>
        </p:nvSpPr>
        <p:spPr>
          <a:xfrm>
            <a:off x="820800" y="2103480"/>
            <a:ext cx="758484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矩形 55300"/>
          <p:cNvSpPr/>
          <p:nvPr/>
        </p:nvSpPr>
        <p:spPr>
          <a:xfrm>
            <a:off x="787320" y="2498760"/>
            <a:ext cx="758520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矩形 55301"/>
          <p:cNvSpPr/>
          <p:nvPr/>
        </p:nvSpPr>
        <p:spPr>
          <a:xfrm>
            <a:off x="787320" y="2892600"/>
            <a:ext cx="7585200" cy="34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矩形 55302"/>
          <p:cNvSpPr/>
          <p:nvPr/>
        </p:nvSpPr>
        <p:spPr>
          <a:xfrm>
            <a:off x="871560" y="3295800"/>
            <a:ext cx="7585200" cy="34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矩形 55303"/>
          <p:cNvSpPr/>
          <p:nvPr/>
        </p:nvSpPr>
        <p:spPr>
          <a:xfrm>
            <a:off x="905040" y="4470480"/>
            <a:ext cx="758484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55304"/>
          <p:cNvSpPr/>
          <p:nvPr/>
        </p:nvSpPr>
        <p:spPr>
          <a:xfrm>
            <a:off x="896760" y="4856040"/>
            <a:ext cx="758520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55305"/>
          <p:cNvSpPr/>
          <p:nvPr/>
        </p:nvSpPr>
        <p:spPr>
          <a:xfrm>
            <a:off x="896760" y="5267160"/>
            <a:ext cx="758520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图片 54273" descr=""/>
          <p:cNvPicPr/>
          <p:nvPr/>
        </p:nvPicPr>
        <p:blipFill>
          <a:blip r:embed="rId1"/>
          <a:stretch/>
        </p:blipFill>
        <p:spPr>
          <a:xfrm>
            <a:off x="423720" y="806400"/>
            <a:ext cx="81439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图片 53249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096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图片 52225" descr=""/>
          <p:cNvPicPr/>
          <p:nvPr/>
        </p:nvPicPr>
        <p:blipFill>
          <a:blip r:embed="rId1"/>
          <a:stretch/>
        </p:blipFill>
        <p:spPr>
          <a:xfrm>
            <a:off x="357120" y="1168560"/>
            <a:ext cx="81536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图片 51201" descr=""/>
          <p:cNvPicPr/>
          <p:nvPr/>
        </p:nvPicPr>
        <p:blipFill>
          <a:blip r:embed="rId1"/>
          <a:stretch/>
        </p:blipFill>
        <p:spPr>
          <a:xfrm>
            <a:off x="341280" y="873000"/>
            <a:ext cx="8001000" cy="4857840"/>
          </a:xfrm>
          <a:prstGeom prst="rect">
            <a:avLst/>
          </a:prstGeom>
          <a:ln w="0">
            <a:noFill/>
          </a:ln>
        </p:spPr>
      </p:pic>
      <p:sp>
        <p:nvSpPr>
          <p:cNvPr id="1092" name="矩形 51202"/>
          <p:cNvSpPr/>
          <p:nvPr/>
        </p:nvSpPr>
        <p:spPr>
          <a:xfrm>
            <a:off x="6292800" y="1332000"/>
            <a:ext cx="17096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矩形 51203"/>
          <p:cNvSpPr/>
          <p:nvPr/>
        </p:nvSpPr>
        <p:spPr>
          <a:xfrm>
            <a:off x="5202360" y="1827360"/>
            <a:ext cx="301788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矩形 51204"/>
          <p:cNvSpPr/>
          <p:nvPr/>
        </p:nvSpPr>
        <p:spPr>
          <a:xfrm>
            <a:off x="3726000" y="2313000"/>
            <a:ext cx="342108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矩形 51205"/>
          <p:cNvSpPr/>
          <p:nvPr/>
        </p:nvSpPr>
        <p:spPr>
          <a:xfrm>
            <a:off x="4002120" y="2790720"/>
            <a:ext cx="20048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矩形 51206"/>
          <p:cNvSpPr/>
          <p:nvPr/>
        </p:nvSpPr>
        <p:spPr>
          <a:xfrm>
            <a:off x="7122960" y="3313080"/>
            <a:ext cx="4446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图片 50177" descr=""/>
          <p:cNvPicPr/>
          <p:nvPr/>
        </p:nvPicPr>
        <p:blipFill>
          <a:blip r:embed="rId1"/>
          <a:stretch/>
        </p:blipFill>
        <p:spPr>
          <a:xfrm>
            <a:off x="189000" y="1012680"/>
            <a:ext cx="8134200" cy="3105360"/>
          </a:xfrm>
          <a:prstGeom prst="rect">
            <a:avLst/>
          </a:prstGeom>
          <a:ln w="0">
            <a:noFill/>
          </a:ln>
        </p:spPr>
      </p:pic>
      <p:sp>
        <p:nvSpPr>
          <p:cNvPr id="1098" name="矩形 50178"/>
          <p:cNvSpPr/>
          <p:nvPr/>
        </p:nvSpPr>
        <p:spPr>
          <a:xfrm>
            <a:off x="6804000" y="979560"/>
            <a:ext cx="4446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图片 73729" descr=""/>
          <p:cNvPicPr/>
          <p:nvPr/>
        </p:nvPicPr>
        <p:blipFill>
          <a:blip r:embed="rId1"/>
          <a:stretch/>
        </p:blipFill>
        <p:spPr>
          <a:xfrm>
            <a:off x="243000" y="885960"/>
            <a:ext cx="8076960" cy="3276360"/>
          </a:xfrm>
          <a:prstGeom prst="rect">
            <a:avLst/>
          </a:prstGeom>
          <a:ln w="0">
            <a:noFill/>
          </a:ln>
        </p:spPr>
      </p:pic>
      <p:sp>
        <p:nvSpPr>
          <p:cNvPr id="1100" name="矩形 73730"/>
          <p:cNvSpPr/>
          <p:nvPr/>
        </p:nvSpPr>
        <p:spPr>
          <a:xfrm>
            <a:off x="1317600" y="1660680"/>
            <a:ext cx="69548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矩形 73731"/>
          <p:cNvSpPr/>
          <p:nvPr/>
        </p:nvSpPr>
        <p:spPr>
          <a:xfrm>
            <a:off x="1258920" y="2079720"/>
            <a:ext cx="69548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矩形 73732"/>
          <p:cNvSpPr/>
          <p:nvPr/>
        </p:nvSpPr>
        <p:spPr>
          <a:xfrm>
            <a:off x="1284120" y="2909880"/>
            <a:ext cx="69548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矩形 73733"/>
          <p:cNvSpPr/>
          <p:nvPr/>
        </p:nvSpPr>
        <p:spPr>
          <a:xfrm>
            <a:off x="1317600" y="3319560"/>
            <a:ext cx="69548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矩形 73734"/>
          <p:cNvSpPr/>
          <p:nvPr/>
        </p:nvSpPr>
        <p:spPr>
          <a:xfrm>
            <a:off x="1258920" y="3747960"/>
            <a:ext cx="69548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0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图片 74753" descr=""/>
          <p:cNvPicPr/>
          <p:nvPr/>
        </p:nvPicPr>
        <p:blipFill>
          <a:blip r:embed="rId1"/>
          <a:stretch/>
        </p:blipFill>
        <p:spPr>
          <a:xfrm>
            <a:off x="158760" y="968400"/>
            <a:ext cx="7991640" cy="409680"/>
          </a:xfrm>
          <a:prstGeom prst="rect">
            <a:avLst/>
          </a:prstGeom>
          <a:ln w="0">
            <a:noFill/>
          </a:ln>
        </p:spPr>
      </p:pic>
      <p:pic>
        <p:nvPicPr>
          <p:cNvPr id="1106" name="图片 74754" descr=""/>
          <p:cNvPicPr/>
          <p:nvPr/>
        </p:nvPicPr>
        <p:blipFill>
          <a:blip r:embed="rId2"/>
          <a:stretch/>
        </p:blipFill>
        <p:spPr>
          <a:xfrm>
            <a:off x="754200" y="1438200"/>
            <a:ext cx="7448400" cy="819360"/>
          </a:xfrm>
          <a:prstGeom prst="rect">
            <a:avLst/>
          </a:prstGeom>
          <a:ln w="0">
            <a:noFill/>
          </a:ln>
        </p:spPr>
      </p:pic>
      <p:sp>
        <p:nvSpPr>
          <p:cNvPr id="1107" name="矩形 74755"/>
          <p:cNvSpPr/>
          <p:nvPr/>
        </p:nvSpPr>
        <p:spPr>
          <a:xfrm>
            <a:off x="4732200" y="912960"/>
            <a:ext cx="1535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74756"/>
          <p:cNvSpPr/>
          <p:nvPr/>
        </p:nvSpPr>
        <p:spPr>
          <a:xfrm>
            <a:off x="3649680" y="1425600"/>
            <a:ext cx="15350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矩形 74757"/>
          <p:cNvSpPr/>
          <p:nvPr/>
        </p:nvSpPr>
        <p:spPr>
          <a:xfrm>
            <a:off x="1785960" y="1844640"/>
            <a:ext cx="305424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2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7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75777" descr=""/>
          <p:cNvPicPr/>
          <p:nvPr/>
        </p:nvPicPr>
        <p:blipFill>
          <a:blip r:embed="rId1"/>
          <a:stretch/>
        </p:blipFill>
        <p:spPr>
          <a:xfrm>
            <a:off x="509760" y="1147680"/>
            <a:ext cx="80388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4513" descr=""/>
          <p:cNvPicPr/>
          <p:nvPr/>
        </p:nvPicPr>
        <p:blipFill>
          <a:blip r:embed="rId1"/>
          <a:stretch/>
        </p:blipFill>
        <p:spPr>
          <a:xfrm>
            <a:off x="291960" y="873000"/>
            <a:ext cx="8115480" cy="5486400"/>
          </a:xfrm>
          <a:prstGeom prst="rect">
            <a:avLst/>
          </a:prstGeom>
          <a:ln w="0">
            <a:noFill/>
          </a:ln>
        </p:spPr>
      </p:pic>
      <p:sp>
        <p:nvSpPr>
          <p:cNvPr id="1024" name="矩形 64514"/>
          <p:cNvSpPr/>
          <p:nvPr/>
        </p:nvSpPr>
        <p:spPr>
          <a:xfrm>
            <a:off x="5695920" y="1835280"/>
            <a:ext cx="4446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图片 76801" descr=""/>
          <p:cNvPicPr/>
          <p:nvPr/>
        </p:nvPicPr>
        <p:blipFill>
          <a:blip r:embed="rId1"/>
          <a:stretch/>
        </p:blipFill>
        <p:spPr>
          <a:xfrm>
            <a:off x="252360" y="1114560"/>
            <a:ext cx="8077320" cy="2543040"/>
          </a:xfrm>
          <a:prstGeom prst="rect">
            <a:avLst/>
          </a:prstGeom>
          <a:ln w="0">
            <a:noFill/>
          </a:ln>
        </p:spPr>
      </p:pic>
      <p:sp>
        <p:nvSpPr>
          <p:cNvPr id="1112" name="矩形 76802"/>
          <p:cNvSpPr/>
          <p:nvPr/>
        </p:nvSpPr>
        <p:spPr>
          <a:xfrm>
            <a:off x="5521320" y="1467000"/>
            <a:ext cx="206388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76803"/>
          <p:cNvSpPr/>
          <p:nvPr/>
        </p:nvSpPr>
        <p:spPr>
          <a:xfrm>
            <a:off x="3708360" y="1962000"/>
            <a:ext cx="1049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矩形 76804"/>
          <p:cNvSpPr/>
          <p:nvPr/>
        </p:nvSpPr>
        <p:spPr>
          <a:xfrm>
            <a:off x="3598920" y="2843280"/>
            <a:ext cx="2840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矩形 76805"/>
          <p:cNvSpPr/>
          <p:nvPr/>
        </p:nvSpPr>
        <p:spPr>
          <a:xfrm>
            <a:off x="7037280" y="2851200"/>
            <a:ext cx="284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77825" descr=""/>
          <p:cNvPicPr/>
          <p:nvPr/>
        </p:nvPicPr>
        <p:blipFill>
          <a:blip r:embed="rId1"/>
          <a:stretch/>
        </p:blipFill>
        <p:spPr>
          <a:xfrm>
            <a:off x="230040" y="1057320"/>
            <a:ext cx="8067960" cy="2914560"/>
          </a:xfrm>
          <a:prstGeom prst="rect">
            <a:avLst/>
          </a:prstGeom>
          <a:ln w="0">
            <a:noFill/>
          </a:ln>
        </p:spPr>
      </p:pic>
      <p:sp>
        <p:nvSpPr>
          <p:cNvPr id="1117" name="矩形 77826"/>
          <p:cNvSpPr/>
          <p:nvPr/>
        </p:nvSpPr>
        <p:spPr>
          <a:xfrm>
            <a:off x="1276200" y="1893960"/>
            <a:ext cx="71136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矩形 77827"/>
          <p:cNvSpPr/>
          <p:nvPr/>
        </p:nvSpPr>
        <p:spPr>
          <a:xfrm>
            <a:off x="1116000" y="2313000"/>
            <a:ext cx="71136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矩形 77828"/>
          <p:cNvSpPr/>
          <p:nvPr/>
        </p:nvSpPr>
        <p:spPr>
          <a:xfrm>
            <a:off x="1149480" y="3117960"/>
            <a:ext cx="71136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矩形 77829"/>
          <p:cNvSpPr/>
          <p:nvPr/>
        </p:nvSpPr>
        <p:spPr>
          <a:xfrm>
            <a:off x="1182600" y="3538440"/>
            <a:ext cx="71136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6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1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78849" descr=""/>
          <p:cNvPicPr/>
          <p:nvPr/>
        </p:nvPicPr>
        <p:blipFill>
          <a:blip r:embed="rId1"/>
          <a:stretch/>
        </p:blipFill>
        <p:spPr>
          <a:xfrm>
            <a:off x="322200" y="984240"/>
            <a:ext cx="8105760" cy="5229360"/>
          </a:xfrm>
          <a:prstGeom prst="rect">
            <a:avLst/>
          </a:prstGeom>
          <a:ln w="0">
            <a:noFill/>
          </a:ln>
        </p:spPr>
      </p:pic>
      <p:sp>
        <p:nvSpPr>
          <p:cNvPr id="1122" name="矩形 78850"/>
          <p:cNvSpPr/>
          <p:nvPr/>
        </p:nvSpPr>
        <p:spPr>
          <a:xfrm>
            <a:off x="7542360" y="954000"/>
            <a:ext cx="4442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8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图片 79873" descr=""/>
          <p:cNvPicPr/>
          <p:nvPr/>
        </p:nvPicPr>
        <p:blipFill>
          <a:blip r:embed="rId1"/>
          <a:stretch/>
        </p:blipFill>
        <p:spPr>
          <a:xfrm>
            <a:off x="317520" y="1206360"/>
            <a:ext cx="7962840" cy="3248280"/>
          </a:xfrm>
          <a:prstGeom prst="rect">
            <a:avLst/>
          </a:prstGeom>
          <a:ln w="0">
            <a:noFill/>
          </a:ln>
        </p:spPr>
      </p:pic>
      <p:sp>
        <p:nvSpPr>
          <p:cNvPr id="1124" name="矩形 79874"/>
          <p:cNvSpPr/>
          <p:nvPr/>
        </p:nvSpPr>
        <p:spPr>
          <a:xfrm>
            <a:off x="814320" y="2390760"/>
            <a:ext cx="768528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矩形 79875"/>
          <p:cNvSpPr/>
          <p:nvPr/>
        </p:nvSpPr>
        <p:spPr>
          <a:xfrm>
            <a:off x="771480" y="2809800"/>
            <a:ext cx="770112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矩形 79876"/>
          <p:cNvSpPr/>
          <p:nvPr/>
        </p:nvSpPr>
        <p:spPr>
          <a:xfrm>
            <a:off x="720720" y="3228840"/>
            <a:ext cx="770112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矩形 79877"/>
          <p:cNvSpPr/>
          <p:nvPr/>
        </p:nvSpPr>
        <p:spPr>
          <a:xfrm>
            <a:off x="695160" y="3639960"/>
            <a:ext cx="770112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矩形 79878"/>
          <p:cNvSpPr/>
          <p:nvPr/>
        </p:nvSpPr>
        <p:spPr>
          <a:xfrm>
            <a:off x="695160" y="4051440"/>
            <a:ext cx="770112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5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0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5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0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5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80897" descr=""/>
          <p:cNvPicPr/>
          <p:nvPr/>
        </p:nvPicPr>
        <p:blipFill>
          <a:blip r:embed="rId1"/>
          <a:stretch/>
        </p:blipFill>
        <p:spPr>
          <a:xfrm>
            <a:off x="380880" y="973080"/>
            <a:ext cx="7972560" cy="4295880"/>
          </a:xfrm>
          <a:prstGeom prst="rect">
            <a:avLst/>
          </a:prstGeom>
          <a:ln w="0">
            <a:noFill/>
          </a:ln>
        </p:spPr>
      </p:pic>
      <p:sp>
        <p:nvSpPr>
          <p:cNvPr id="1130" name="矩形 80898"/>
          <p:cNvSpPr/>
          <p:nvPr/>
        </p:nvSpPr>
        <p:spPr>
          <a:xfrm>
            <a:off x="638280" y="1652760"/>
            <a:ext cx="7448400" cy="32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52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63489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086680" cy="5067360"/>
          </a:xfrm>
          <a:prstGeom prst="rect">
            <a:avLst/>
          </a:prstGeom>
          <a:ln w="0">
            <a:noFill/>
          </a:ln>
        </p:spPr>
      </p:pic>
      <p:sp>
        <p:nvSpPr>
          <p:cNvPr id="1026" name="矩形 63490"/>
          <p:cNvSpPr/>
          <p:nvPr/>
        </p:nvSpPr>
        <p:spPr>
          <a:xfrm>
            <a:off x="5586480" y="1357200"/>
            <a:ext cx="83808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63491"/>
          <p:cNvSpPr/>
          <p:nvPr/>
        </p:nvSpPr>
        <p:spPr>
          <a:xfrm>
            <a:off x="4362480" y="1827360"/>
            <a:ext cx="17035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3492"/>
          <p:cNvSpPr/>
          <p:nvPr/>
        </p:nvSpPr>
        <p:spPr>
          <a:xfrm>
            <a:off x="3908520" y="2281320"/>
            <a:ext cx="83808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63493"/>
          <p:cNvSpPr/>
          <p:nvPr/>
        </p:nvSpPr>
        <p:spPr>
          <a:xfrm>
            <a:off x="4454640" y="2741760"/>
            <a:ext cx="42116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63494"/>
          <p:cNvSpPr/>
          <p:nvPr/>
        </p:nvSpPr>
        <p:spPr>
          <a:xfrm>
            <a:off x="1282680" y="3228840"/>
            <a:ext cx="83808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63495"/>
          <p:cNvSpPr/>
          <p:nvPr/>
        </p:nvSpPr>
        <p:spPr>
          <a:xfrm>
            <a:off x="4033800" y="3683160"/>
            <a:ext cx="166068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63496"/>
          <p:cNvSpPr/>
          <p:nvPr/>
        </p:nvSpPr>
        <p:spPr>
          <a:xfrm>
            <a:off x="3992400" y="4135320"/>
            <a:ext cx="46562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63497"/>
          <p:cNvSpPr/>
          <p:nvPr/>
        </p:nvSpPr>
        <p:spPr>
          <a:xfrm>
            <a:off x="1442880" y="4587840"/>
            <a:ext cx="12240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63498"/>
          <p:cNvSpPr/>
          <p:nvPr/>
        </p:nvSpPr>
        <p:spPr>
          <a:xfrm>
            <a:off x="4654440" y="5067360"/>
            <a:ext cx="8384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3499"/>
          <p:cNvSpPr/>
          <p:nvPr/>
        </p:nvSpPr>
        <p:spPr>
          <a:xfrm>
            <a:off x="5191200" y="5537160"/>
            <a:ext cx="83808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62465" descr=""/>
          <p:cNvPicPr/>
          <p:nvPr/>
        </p:nvPicPr>
        <p:blipFill>
          <a:blip r:embed="rId1"/>
          <a:stretch/>
        </p:blipFill>
        <p:spPr>
          <a:xfrm>
            <a:off x="309600" y="1003320"/>
            <a:ext cx="8115120" cy="4800600"/>
          </a:xfrm>
          <a:prstGeom prst="rect">
            <a:avLst/>
          </a:prstGeom>
          <a:ln w="0">
            <a:noFill/>
          </a:ln>
        </p:spPr>
      </p:pic>
      <p:sp>
        <p:nvSpPr>
          <p:cNvPr id="1037" name="矩形 62466"/>
          <p:cNvSpPr/>
          <p:nvPr/>
        </p:nvSpPr>
        <p:spPr>
          <a:xfrm>
            <a:off x="2004840" y="1390680"/>
            <a:ext cx="20988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62467"/>
          <p:cNvSpPr/>
          <p:nvPr/>
        </p:nvSpPr>
        <p:spPr>
          <a:xfrm>
            <a:off x="1996920" y="1827360"/>
            <a:ext cx="20988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62468"/>
          <p:cNvSpPr/>
          <p:nvPr/>
        </p:nvSpPr>
        <p:spPr>
          <a:xfrm>
            <a:off x="3565440" y="1827360"/>
            <a:ext cx="2095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62469"/>
          <p:cNvSpPr/>
          <p:nvPr/>
        </p:nvSpPr>
        <p:spPr>
          <a:xfrm>
            <a:off x="1644480" y="2254320"/>
            <a:ext cx="20988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62470"/>
          <p:cNvSpPr/>
          <p:nvPr/>
        </p:nvSpPr>
        <p:spPr>
          <a:xfrm>
            <a:off x="2868480" y="2254320"/>
            <a:ext cx="2095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62471"/>
          <p:cNvSpPr/>
          <p:nvPr/>
        </p:nvSpPr>
        <p:spPr>
          <a:xfrm>
            <a:off x="4597560" y="2254320"/>
            <a:ext cx="2095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2472"/>
          <p:cNvSpPr/>
          <p:nvPr/>
        </p:nvSpPr>
        <p:spPr>
          <a:xfrm>
            <a:off x="6527880" y="2254320"/>
            <a:ext cx="2095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62473"/>
          <p:cNvSpPr/>
          <p:nvPr/>
        </p:nvSpPr>
        <p:spPr>
          <a:xfrm>
            <a:off x="1654200" y="2673360"/>
            <a:ext cx="2095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62474"/>
          <p:cNvSpPr/>
          <p:nvPr/>
        </p:nvSpPr>
        <p:spPr>
          <a:xfrm>
            <a:off x="3222720" y="2673360"/>
            <a:ext cx="2095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62475"/>
          <p:cNvSpPr/>
          <p:nvPr/>
        </p:nvSpPr>
        <p:spPr>
          <a:xfrm>
            <a:off x="6643800" y="3111480"/>
            <a:ext cx="4442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61441" descr=""/>
          <p:cNvPicPr/>
          <p:nvPr/>
        </p:nvPicPr>
        <p:blipFill>
          <a:blip r:embed="rId1"/>
          <a:stretch/>
        </p:blipFill>
        <p:spPr>
          <a:xfrm>
            <a:off x="339840" y="982800"/>
            <a:ext cx="8105760" cy="3286080"/>
          </a:xfrm>
          <a:prstGeom prst="rect">
            <a:avLst/>
          </a:prstGeom>
          <a:ln w="0">
            <a:noFill/>
          </a:ln>
        </p:spPr>
      </p:pic>
      <p:sp>
        <p:nvSpPr>
          <p:cNvPr id="1048" name="矩形 61442"/>
          <p:cNvSpPr/>
          <p:nvPr/>
        </p:nvSpPr>
        <p:spPr>
          <a:xfrm>
            <a:off x="1184400" y="1467000"/>
            <a:ext cx="4442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60417" descr=""/>
          <p:cNvPicPr/>
          <p:nvPr/>
        </p:nvPicPr>
        <p:blipFill>
          <a:blip r:embed="rId1"/>
          <a:stretch/>
        </p:blipFill>
        <p:spPr>
          <a:xfrm>
            <a:off x="330120" y="960480"/>
            <a:ext cx="8020080" cy="187632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60418" descr=""/>
          <p:cNvPicPr/>
          <p:nvPr/>
        </p:nvPicPr>
        <p:blipFill>
          <a:blip r:embed="rId2"/>
          <a:stretch/>
        </p:blipFill>
        <p:spPr>
          <a:xfrm>
            <a:off x="809640" y="2919240"/>
            <a:ext cx="3848040" cy="933480"/>
          </a:xfrm>
          <a:prstGeom prst="rect">
            <a:avLst/>
          </a:prstGeom>
          <a:ln w="0">
            <a:noFill/>
          </a:ln>
        </p:spPr>
      </p:pic>
      <p:sp>
        <p:nvSpPr>
          <p:cNvPr id="1051" name="矩形 60419"/>
          <p:cNvSpPr/>
          <p:nvPr/>
        </p:nvSpPr>
        <p:spPr>
          <a:xfrm>
            <a:off x="1233360" y="1398600"/>
            <a:ext cx="4446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59393" descr=""/>
          <p:cNvPicPr/>
          <p:nvPr/>
        </p:nvPicPr>
        <p:blipFill>
          <a:blip r:embed="rId1"/>
          <a:stretch/>
        </p:blipFill>
        <p:spPr>
          <a:xfrm>
            <a:off x="344520" y="973080"/>
            <a:ext cx="8115120" cy="3714840"/>
          </a:xfrm>
          <a:prstGeom prst="rect">
            <a:avLst/>
          </a:prstGeom>
          <a:ln w="0">
            <a:noFill/>
          </a:ln>
        </p:spPr>
      </p:pic>
      <p:sp>
        <p:nvSpPr>
          <p:cNvPr id="1053" name="矩形 59394"/>
          <p:cNvSpPr/>
          <p:nvPr/>
        </p:nvSpPr>
        <p:spPr>
          <a:xfrm>
            <a:off x="4756320" y="1382760"/>
            <a:ext cx="7635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59395"/>
          <p:cNvSpPr/>
          <p:nvPr/>
        </p:nvSpPr>
        <p:spPr>
          <a:xfrm>
            <a:off x="7246800" y="1382760"/>
            <a:ext cx="7635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59396"/>
          <p:cNvSpPr/>
          <p:nvPr/>
        </p:nvSpPr>
        <p:spPr>
          <a:xfrm>
            <a:off x="4991040" y="1809720"/>
            <a:ext cx="7635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59397"/>
          <p:cNvSpPr/>
          <p:nvPr/>
        </p:nvSpPr>
        <p:spPr>
          <a:xfrm>
            <a:off x="6937200" y="1809720"/>
            <a:ext cx="7639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59398"/>
          <p:cNvSpPr/>
          <p:nvPr/>
        </p:nvSpPr>
        <p:spPr>
          <a:xfrm>
            <a:off x="2021040" y="2220840"/>
            <a:ext cx="7635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59399"/>
          <p:cNvSpPr/>
          <p:nvPr/>
        </p:nvSpPr>
        <p:spPr>
          <a:xfrm>
            <a:off x="4622760" y="2220840"/>
            <a:ext cx="7635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59400"/>
          <p:cNvSpPr/>
          <p:nvPr/>
        </p:nvSpPr>
        <p:spPr>
          <a:xfrm>
            <a:off x="2341440" y="2631960"/>
            <a:ext cx="15098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59401"/>
          <p:cNvSpPr/>
          <p:nvPr/>
        </p:nvSpPr>
        <p:spPr>
          <a:xfrm>
            <a:off x="4211640" y="3462480"/>
            <a:ext cx="188748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59402"/>
          <p:cNvSpPr/>
          <p:nvPr/>
        </p:nvSpPr>
        <p:spPr>
          <a:xfrm>
            <a:off x="6878520" y="3462480"/>
            <a:ext cx="15433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59403"/>
          <p:cNvSpPr/>
          <p:nvPr/>
        </p:nvSpPr>
        <p:spPr>
          <a:xfrm>
            <a:off x="1308240" y="3890880"/>
            <a:ext cx="4442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59404"/>
          <p:cNvSpPr/>
          <p:nvPr/>
        </p:nvSpPr>
        <p:spPr>
          <a:xfrm>
            <a:off x="2558880" y="3890880"/>
            <a:ext cx="29019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58369" descr=""/>
          <p:cNvPicPr/>
          <p:nvPr/>
        </p:nvPicPr>
        <p:blipFill>
          <a:blip r:embed="rId1"/>
          <a:stretch/>
        </p:blipFill>
        <p:spPr>
          <a:xfrm>
            <a:off x="682560" y="1095480"/>
            <a:ext cx="7658280" cy="4600440"/>
          </a:xfrm>
          <a:prstGeom prst="rect">
            <a:avLst/>
          </a:prstGeom>
          <a:ln w="0">
            <a:noFill/>
          </a:ln>
        </p:spPr>
      </p:pic>
      <p:sp>
        <p:nvSpPr>
          <p:cNvPr id="1065" name="矩形 58370"/>
          <p:cNvSpPr/>
          <p:nvPr/>
        </p:nvSpPr>
        <p:spPr>
          <a:xfrm>
            <a:off x="6308640" y="1919160"/>
            <a:ext cx="20383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58371"/>
          <p:cNvSpPr/>
          <p:nvPr/>
        </p:nvSpPr>
        <p:spPr>
          <a:xfrm>
            <a:off x="1131840" y="2320920"/>
            <a:ext cx="781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58372"/>
          <p:cNvSpPr/>
          <p:nvPr/>
        </p:nvSpPr>
        <p:spPr>
          <a:xfrm>
            <a:off x="7448400" y="2338560"/>
            <a:ext cx="781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58373"/>
          <p:cNvSpPr/>
          <p:nvPr/>
        </p:nvSpPr>
        <p:spPr>
          <a:xfrm>
            <a:off x="1096920" y="2757600"/>
            <a:ext cx="16113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58374"/>
          <p:cNvSpPr/>
          <p:nvPr/>
        </p:nvSpPr>
        <p:spPr>
          <a:xfrm>
            <a:off x="1130400" y="3990960"/>
            <a:ext cx="71895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58375"/>
          <p:cNvSpPr/>
          <p:nvPr/>
        </p:nvSpPr>
        <p:spPr>
          <a:xfrm>
            <a:off x="1130400" y="4427640"/>
            <a:ext cx="71895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58376"/>
          <p:cNvSpPr/>
          <p:nvPr/>
        </p:nvSpPr>
        <p:spPr>
          <a:xfrm>
            <a:off x="1163520" y="4846680"/>
            <a:ext cx="71899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58377"/>
          <p:cNvSpPr/>
          <p:nvPr/>
        </p:nvSpPr>
        <p:spPr>
          <a:xfrm>
            <a:off x="1163520" y="5257800"/>
            <a:ext cx="71899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57345" descr=""/>
          <p:cNvPicPr/>
          <p:nvPr/>
        </p:nvPicPr>
        <p:blipFill>
          <a:blip r:embed="rId1"/>
          <a:stretch/>
        </p:blipFill>
        <p:spPr>
          <a:xfrm>
            <a:off x="444600" y="1038240"/>
            <a:ext cx="7896240" cy="3857760"/>
          </a:xfrm>
          <a:prstGeom prst="rect">
            <a:avLst/>
          </a:prstGeom>
          <a:ln w="0">
            <a:noFill/>
          </a:ln>
        </p:spPr>
      </p:pic>
      <p:sp>
        <p:nvSpPr>
          <p:cNvPr id="1074" name="矩形 57346"/>
          <p:cNvSpPr/>
          <p:nvPr/>
        </p:nvSpPr>
        <p:spPr>
          <a:xfrm>
            <a:off x="7643880" y="2523960"/>
            <a:ext cx="4446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5T01:25:53Z</dcterms:modified>
  <cp:revision>7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